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EBC-53C9-4A84-8B06-C9FDA36C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247-228B-4181-A4C8-BC6D8433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CB193-0121-48D9-8BC1-374C0F8C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90046-A403-471E-A37F-99C69CE8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87C55-8DCE-45AC-A778-8135A378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8C8B6-A4C1-4F1B-8A02-0273A29C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F25E1-4F5A-430D-85F7-2CAFE7D8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8358B-B6F3-4DCE-9679-29F6B74C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545AA-76A5-4780-80F9-8DBF3A18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E34D0-699C-4AB5-971E-6C47E408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79E54-1419-4331-95E9-46EB9D29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67804-4AE3-4F29-91B4-E919BC38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DF5-19E4-4D66-8AC8-8BBC92EE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1315A-EC2C-4132-A28A-99AC547F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60C14-273E-406B-A721-D4C66E01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639D3-9692-4A49-9FA8-5A08F5B6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9CBEF-DCB6-46C0-B0F4-458DC051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8B4A2-EA02-4DEE-92CB-0ED99C8B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95E89-F9B4-4CDC-AE8D-61C94D6C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F98FA-4832-4DAD-90D8-B616C0CB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E3DAC-4569-4F45-A783-DD82ECD8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2D349-4AC9-433E-A9B6-F7A7A51E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3EF59-C10B-4859-8742-292DB63E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156-5179-49FC-A5FB-6354CABD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BA266-B0FB-4B7B-9FFF-94E76D00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106A-802B-45C0-83F7-9C7AA446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5277-B8EF-43F0-A282-C90A23D2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4F1028-C248-42C1-AC21-8CC240F7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BF5F2E-AB9A-4B35-B76D-2CED15D8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2B9240-B517-4EE5-ABA5-61E7B38D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4CAFC1-CC8F-4B71-A0FC-31D61FEF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2B96FF-952C-44E7-AB0B-96E6F331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073B-1CFD-4036-850F-3155868E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5E062F-43BA-454A-81D5-FAC6124F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1CB9E0-E4B8-4D0C-8259-B8F51A0F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5B36AD-0DC5-4E9A-8845-91B2FCC6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2327BA-93DC-4462-843E-CABA0E0B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38F748-645A-441A-B3D3-2E0E58BB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5D827E-794A-4C12-856E-5425BB7A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CBC27A-5CC7-4A4C-BF69-412C3F67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66EE4B-CF3C-4C0B-812B-69991745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8D8B2D-DF1A-4E45-AB3C-0C98971D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3D053A2-EA97-4AD9-A860-9F69A50F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A21F-73D3-46E4-850C-96E25098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A6162C-E3EA-4044-AA00-5344D4D0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448790D-FA49-4915-8F1B-20A0EC83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4BD51B-5B57-4A07-9A62-55FCFAD2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0677CAD-5599-4DC1-9E74-D12C1920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E7CE3CF-5E9F-4B24-BDE3-9D3E87E7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6D7518-6CE7-4060-978D-B4F72CAF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0FEA284-F3D2-440A-935B-9CEA9E26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CB5D7F7-309E-4DCC-98AD-FEDF4015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55ACBD-3D22-415E-9967-8E6FCAA5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DE8196B-340A-42D3-B6EE-8D0BFB60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F26E-F0B7-44A3-8B38-1F830D1A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EAC3814-93B4-4009-9F57-6E3B9258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3E57AB-D36D-4237-8474-313AA54C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A75C2B9-40E3-4598-8E29-9EEAA63D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C3B571-D5FE-4784-B3E4-3A8CC6D9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AE062E-3FAD-4F75-B7AE-30942394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B0A474-097E-40B5-8E8D-EA7A34B8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BCCAC31-1260-4094-AC0D-6E5334AE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94939A-D9A6-4987-9050-14958753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765EC0-C3A2-4298-89E2-7617DF8C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005F67C-64FA-4B7A-BCEE-8496079A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6B85-634B-4C04-8E05-5B1C0EA1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A0BF65-40E1-4C8E-9A66-98A7ED52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76892F0-6089-4FDC-94EB-ED214ED5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97FCCFD-8A2E-49EA-A90B-13FFE826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B469F7B-C564-4E59-8D97-CFF5B66F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7654BAE-1BA2-48A5-B89E-2D8CA7F3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EE7B870-6DC9-4AEF-8312-5561AFB9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B50DB5C-7D72-479B-97AA-6C9D2593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138C2F6-B890-47C0-B7BD-B6D5B731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8882590-F8F8-49C4-92DB-B624D66F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15569A4-A5D6-4ACB-B406-B8D1779D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B654-E75F-4C29-B706-349C4B9E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0196AD-187C-4B0A-9ACB-F8E540F0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52C9B57-BC19-4F75-AAE2-6CFFACE1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8E5F40C-2A15-46D9-9FAA-843A5A11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6F9-D763-4A96-BBF4-D5ADBF6C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015A-17A8-412C-8C9F-0BD8DC58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5E15-A151-4050-A263-660E3F14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0B54-AB1C-4E7D-95A8-95E421FE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6D4A-D005-47CD-A7FB-A17F2167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A34B-4FD4-47AD-B17C-646BF1C5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95D62-E77F-4D2C-B39D-8B5A6604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AD4E9-E986-4CC9-8652-1008B790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36998-0E5E-472A-90B1-E12C2D2B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3C2FB-275C-4274-946C-235C5DDE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AE392-41EF-407B-B0D3-8AA88E2E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B62-5C78-4688-988F-85DB70C9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1BEA7-46B8-4030-93FE-0853A4DB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324D8-77C6-4EED-8CC8-A7F1C6EC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12370-D2DA-4AFF-A1AA-7FC8275F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90C8E-2124-4F20-8102-11A762D9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A3FA4-1057-4787-ACCF-CE93F285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C254F-D553-4F03-B856-214F2934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853D4-67CF-46AA-B42D-241C6F76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3A71E-DCD9-4DC3-AF63-C1C13427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EF7DB-BC24-4D3A-830E-AB6AA15A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312AE-6F77-4441-A7D2-0AFDDCD9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25C-4128-4B7B-A8C5-7FD522C2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43FF3-CC23-417C-A8BD-E2B38B5C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D69D8-A8CD-415C-8D51-A59CD3B3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E8D4E-83CD-4D8A-A4E0-974EE7D0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3F569-EECC-408F-BC3C-507E2E0E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87C6F-393D-43C1-A66B-425C405A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CD995-4683-4C76-B673-931A223C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4DE3B-BE8C-43C9-BBCC-8CC1154C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211FA-BAC6-4F93-A22A-350CB89B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0212E-9C9B-47E5-BC93-0876E84A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6C38A-D04F-4FDD-9097-DE0E340C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055-FB2A-417A-8DC7-4E75F7B7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A3671-4755-41D1-853C-210B18CD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B39C1-4E99-4BEA-8D51-C8E368AA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BD071-B070-4881-B5A9-1EAB5DED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B0ECC-54B1-4797-851B-AD5A66CB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6111A-3FBD-4283-B9C8-EA4332DD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ECA5A-B4B3-43A2-8AAE-978EAC78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ED8FD-4BD1-4FB7-9CCC-9B1DC503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ABA95-E212-4DC0-B040-C8A33865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350AA-AAA6-48EA-8B45-4BA7299D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8AD49-8BCE-4DD0-A31F-B09F384A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52D-AB65-4DC7-B62D-E914BB11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89802-75E3-4885-A659-D0235BFF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A686A-502A-435C-B66A-9D35067F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F4462-D2A0-4F9D-ABBD-983FDCC2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2CF96-A480-458E-8304-816FF0E0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F18CF-4AA8-43D8-BF13-57D6CE93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8DAC2-D951-43BF-9F6A-C58FABFE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A0A12-F521-401F-8272-C6DD2DB3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1E843-FB6F-481B-84FA-12E3BF36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1D547-047D-4CC2-89A4-11D5550F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6A55D-1364-421C-9480-F2EAE4E6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930-FCA7-4758-BDF7-CDB42FF5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643B3-3600-457B-BC37-CD673B60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17DCA-9759-435D-B914-8365A58F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285BB-0111-463E-B243-E6885416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2F01B-481A-4463-B5EE-21EB4013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8A57B-DF07-4F43-8EBD-B567FACB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859F3-EC48-4825-8282-37B73E48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03CBC-D079-4428-AB38-83EC8269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26413-FB89-4180-B59C-88A51701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94D5E-D9FF-4792-A28B-F59A6834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2F34F-BFAD-4EF6-AB7D-AF41A823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331-CAF8-4A0D-ACE9-358DCC38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1B7C6-9838-46EB-B6D8-BD5C566E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60087-A284-4D73-829A-CE924BAA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81DA8-BEB6-495D-B6FF-47D772EB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A4A20-528D-4100-87BE-213ABC00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48B53-5391-4AF6-A25E-DD25100F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88497-4ABE-4443-A632-2EDA1007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54DF8-B625-4AA0-A83D-30CAD110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E425D-9B41-4F99-9540-1FBBD366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C3CBE-D99A-418C-8580-CA0F4949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EADF4-DDB8-40BC-A9C7-54F5BDD6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30F-14AA-4407-B170-763730AD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3D72E-0435-4436-B18D-F9B06503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64785-F16C-4128-896D-C341709D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47853-1363-4910-B996-F56E7888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C1918-EA48-4FB0-93B6-2BB68A90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38C70-7A8B-46F4-AA70-98317F67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8E1DC-FCD3-47F7-B04F-45C26B7D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EFAD8-408F-4EB0-BC9F-12950CAC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45569-B03B-4977-A45F-B82BE86E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2F0FE-4925-4575-92E0-DEBECCA3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C13F5-01B4-4DF0-A1F4-68D674B8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69D2-B71D-444C-993A-D5E819B554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6E28-5579-4DFE-AC49-A39546034A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B1D8-BFC9-4290-8570-C1CD4ACBB2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E997-6C77-40E6-AB11-F08B8DB333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9142-EE7D-422B-957B-88E6DD5911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1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3342-21CC-4260-BF97-1989078F51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D65F-5D24-4532-ABC9-0AB263CC7B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7F48-69E2-4DCD-85A1-6F519CD1D0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D73B-6FAF-4B2E-BFC0-591EE38109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C9AA-2C37-41EE-B1E7-EDC75161E5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5B35-04B7-4029-9D41-9B442FAC2F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0C50-A641-4847-B5E9-5B6FCB91E1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BAC8-94AD-48E7-9B60-42807AF700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F540-2ECE-4203-B61C-2F1FAF2549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17600" y="3809520"/>
            <a:ext cx="8307360" cy="7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7f7f7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nez un tableau et complétez les phrases suivantes avec le pronom qui convient. 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07" name="Picture 5" descr="j0149481"/>
          <p:cNvPicPr/>
          <p:nvPr/>
        </p:nvPicPr>
        <p:blipFill>
          <a:blip r:embed="rId1"/>
          <a:stretch/>
        </p:blipFill>
        <p:spPr>
          <a:xfrm>
            <a:off x="7467480" y="380880"/>
            <a:ext cx="974880" cy="9907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8" descr="MPj03142650000[1]"/>
          <p:cNvPicPr/>
          <p:nvPr/>
        </p:nvPicPr>
        <p:blipFill>
          <a:blip r:embed="rId2"/>
          <a:stretch/>
        </p:blipFill>
        <p:spPr>
          <a:xfrm>
            <a:off x="304920" y="304920"/>
            <a:ext cx="129528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7f7f7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inne fait du shopping avec sa copine Célia. Trouvez le bon pronom pour compléter ses phrases . 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11" name="Picture 5" descr="j0149481"/>
          <p:cNvPicPr/>
          <p:nvPr/>
        </p:nvPicPr>
        <p:blipFill>
          <a:blip r:embed="rId1"/>
          <a:stretch/>
        </p:blipFill>
        <p:spPr>
          <a:xfrm>
            <a:off x="7467480" y="380880"/>
            <a:ext cx="974880" cy="9907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8" descr="MPj03142650000[1]"/>
          <p:cNvPicPr/>
          <p:nvPr/>
        </p:nvPicPr>
        <p:blipFill>
          <a:blip r:embed="rId2"/>
          <a:stretch/>
        </p:blipFill>
        <p:spPr>
          <a:xfrm>
            <a:off x="304920" y="304920"/>
            <a:ext cx="129528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685800" y="2057400"/>
            <a:ext cx="769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J’achète des basket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à mes cousi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6" name="Picture 8" descr="j0212957"/>
          <p:cNvPicPr/>
          <p:nvPr/>
        </p:nvPicPr>
        <p:blipFill>
          <a:blip r:embed="rId1"/>
          <a:stretch/>
        </p:blipFill>
        <p:spPr>
          <a:xfrm>
            <a:off x="304920" y="304920"/>
            <a:ext cx="1523880" cy="9572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9"/>
          <p:cNvSpPr/>
          <p:nvPr/>
        </p:nvSpPr>
        <p:spPr>
          <a:xfrm>
            <a:off x="1676520" y="449568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_____ achète des baske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TextBox 6"/>
          <p:cNvSpPr/>
          <p:nvPr/>
        </p:nvSpPr>
        <p:spPr>
          <a:xfrm>
            <a:off x="2356560" y="4419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e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685800" y="2057400"/>
            <a:ext cx="769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Je donne une ceintur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à toi. (you fam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2" name="Picture 8" descr="j0212957"/>
          <p:cNvPicPr/>
          <p:nvPr/>
        </p:nvPicPr>
        <p:blipFill>
          <a:blip r:embed="rId1"/>
          <a:stretch/>
        </p:blipFill>
        <p:spPr>
          <a:xfrm>
            <a:off x="304920" y="304920"/>
            <a:ext cx="1523880" cy="95724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9"/>
          <p:cNvSpPr/>
          <p:nvPr/>
        </p:nvSpPr>
        <p:spPr>
          <a:xfrm>
            <a:off x="1676520" y="449568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_____ donne une ceintu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TextBox 6"/>
          <p:cNvSpPr/>
          <p:nvPr/>
        </p:nvSpPr>
        <p:spPr>
          <a:xfrm>
            <a:off x="2403360" y="441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685800" y="2057400"/>
            <a:ext cx="769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Nous achetons une jup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à notre cousine Christell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8" name="Picture 8" descr="j0212957"/>
          <p:cNvPicPr/>
          <p:nvPr/>
        </p:nvPicPr>
        <p:blipFill>
          <a:blip r:embed="rId1"/>
          <a:stretch/>
        </p:blipFill>
        <p:spPr>
          <a:xfrm>
            <a:off x="304920" y="304920"/>
            <a:ext cx="1523880" cy="95724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9"/>
          <p:cNvSpPr/>
          <p:nvPr/>
        </p:nvSpPr>
        <p:spPr>
          <a:xfrm>
            <a:off x="1676520" y="44956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_____ achetons une cein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TextBox 6"/>
          <p:cNvSpPr/>
          <p:nvPr/>
        </p:nvSpPr>
        <p:spPr>
          <a:xfrm>
            <a:off x="2939040" y="4419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3" name="Text Box 4"/>
          <p:cNvSpPr/>
          <p:nvPr/>
        </p:nvSpPr>
        <p:spPr>
          <a:xfrm>
            <a:off x="685800" y="205740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Célia prend des lunettes de soleil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à ma mère et moi (to us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4" name="Picture 8" descr="j0212957"/>
          <p:cNvPicPr/>
          <p:nvPr/>
        </p:nvPicPr>
        <p:blipFill>
          <a:blip r:embed="rId1"/>
          <a:stretch/>
        </p:blipFill>
        <p:spPr>
          <a:xfrm>
            <a:off x="304920" y="304920"/>
            <a:ext cx="1523880" cy="95724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9"/>
          <p:cNvSpPr/>
          <p:nvPr/>
        </p:nvSpPr>
        <p:spPr>
          <a:xfrm>
            <a:off x="1676520" y="44956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élia _____ prend des lunettes de sole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TextBox 6"/>
          <p:cNvSpPr/>
          <p:nvPr/>
        </p:nvSpPr>
        <p:spPr>
          <a:xfrm>
            <a:off x="2752560" y="4419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685800" y="2057400"/>
            <a:ext cx="769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J’achète des gant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à mes soeu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0" name="Picture 8" descr="j0212957"/>
          <p:cNvPicPr/>
          <p:nvPr/>
        </p:nvPicPr>
        <p:blipFill>
          <a:blip r:embed="rId1"/>
          <a:stretch/>
        </p:blipFill>
        <p:spPr>
          <a:xfrm>
            <a:off x="304920" y="304920"/>
            <a:ext cx="1523880" cy="957240"/>
          </a:xfrm>
          <a:prstGeom prst="rect">
            <a:avLst/>
          </a:prstGeom>
          <a:ln w="0">
            <a:noFill/>
          </a:ln>
        </p:spPr>
      </p:pic>
      <p:sp>
        <p:nvSpPr>
          <p:cNvPr id="741" name="Text Box 9"/>
          <p:cNvSpPr/>
          <p:nvPr/>
        </p:nvSpPr>
        <p:spPr>
          <a:xfrm>
            <a:off x="1676520" y="4495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_____ achète des g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Box 6"/>
          <p:cNvSpPr/>
          <p:nvPr/>
        </p:nvSpPr>
        <p:spPr>
          <a:xfrm>
            <a:off x="2280600" y="4419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e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5800" y="2057400"/>
            <a:ext cx="769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Célia achète un pantalo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à sa soeu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6" name="Picture 8" descr="j0212957"/>
          <p:cNvPicPr/>
          <p:nvPr/>
        </p:nvPicPr>
        <p:blipFill>
          <a:blip r:embed="rId1"/>
          <a:stretch/>
        </p:blipFill>
        <p:spPr>
          <a:xfrm>
            <a:off x="304920" y="304920"/>
            <a:ext cx="1523880" cy="957240"/>
          </a:xfrm>
          <a:prstGeom prst="rect">
            <a:avLst/>
          </a:prstGeom>
          <a:ln w="0">
            <a:noFill/>
          </a:ln>
        </p:spPr>
      </p:pic>
      <p:sp>
        <p:nvSpPr>
          <p:cNvPr id="747" name="Text Box 9"/>
          <p:cNvSpPr/>
          <p:nvPr/>
        </p:nvSpPr>
        <p:spPr>
          <a:xfrm>
            <a:off x="1676520" y="44956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_____ achète un pantal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TextBox 6"/>
          <p:cNvSpPr/>
          <p:nvPr/>
        </p:nvSpPr>
        <p:spPr>
          <a:xfrm>
            <a:off x="2253240" y="4419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7:05:15Z</dcterms:created>
  <dc:creator>Mr. Smith</dc:creator>
  <dc:description/>
  <dc:language>en-US</dc:language>
  <cp:lastModifiedBy>Administrator</cp:lastModifiedBy>
  <dcterms:modified xsi:type="dcterms:W3CDTF">2011-11-28T18:43:28Z</dcterms:modified>
  <cp:revision>109</cp:revision>
  <dc:subject/>
  <dc:title>Allez, viens! – Level 2</dc:title>
</cp:coreProperties>
</file>